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25D-CA7E-4CA6-99ED-9F7FAC6C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D9C-E075-4F07-9AA0-C3C8BB8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4E8-6B22-464E-8216-C73865E5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B54-FBFF-487B-ABDA-365EE2F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F91-63EC-452E-84C3-37AD1A19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C82B-53A0-4A4D-8F67-3D0012E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7DD6-D6AB-4AF4-BDA9-19B2B0E6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24CE-7294-48F9-BD96-A723657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3B4F-8800-4C2F-A59C-FFAA4075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D5A-400B-4EE8-B7CC-1C507787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04F6-1699-4E0F-9136-3D9F28E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FA0-DC6E-455A-B86F-D7D00FE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A99-E132-4203-92CB-90728BF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94F1-5D0E-4A7A-8161-B45D369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A0B-5733-41C1-A3BE-A031A029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5D6-0F38-4FE6-BD4C-509E9E3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506-7138-4926-BDEC-7787362B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B9E-767C-4E27-8072-1533EC69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BDB-5D94-43ED-AF43-5CDA9D5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3A9-D001-4D04-84E8-69F24D0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4FC-FF26-4440-AF4D-2304740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106-7258-449F-B1F5-48C95AF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D31-A8C2-4871-96AF-477EB9F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8EF-20A9-4AD3-B614-77D3BA9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B428-AB0E-40FB-AB14-797FF04BB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FD97-6C50-423F-9104-DBC72F4F8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ogramme of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should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at the principles of effective practice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at factors can have an effect on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ow to create a 6 week programme of work to improve a skill/ techn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Period star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 the three methods of prac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 the 3 stages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practices would you be performing at each stage of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rk/Rest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ivation/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Clea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su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iev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e-b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Work/Rest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t consider: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xperience, ability, difficulty of skill, physical demands of sk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gh quality practice over short time is better than low quality practice ove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you must always be challe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ractice should never be too easy or too 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 you improve you should aim to make practice gradually more difficult</a:t>
            </a: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/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Intrin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Extrin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must have high levels of concentration during practice to stay foc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ffectiv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py the diagram of EF into your jo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53:13Z</dcterms:created>
  <dc:creator>DooganS</dc:creator>
  <dc:description/>
  <dc:language>en-US</dc:language>
  <cp:lastModifiedBy>DooganS</cp:lastModifiedBy>
  <dcterms:modified xsi:type="dcterms:W3CDTF">2009-11-17T08:39:22Z</dcterms:modified>
  <cp:revision>7</cp:revision>
  <dc:subject/>
  <dc:title>Skills &amp; Techniques</dc:title>
</cp:coreProperties>
</file>